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034D-6E81-4701-A63A-9FAEF8102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7E96-A585-4306-AC36-5AD402971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1AC3-507A-425D-8290-A1AB5519B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B5EB-5158-49E7-8341-36BDC1ACD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51429-0A71-470E-A886-7A3E02D42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34E18-E94B-4A44-806C-7134AE95D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D11EA-C9F7-4518-9941-2660C0E5A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48CAE-E9C7-46A7-A7B3-2C87FB23B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31A6C-CCC3-4283-ABD2-DEF19597D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9D922-5828-46EA-A11F-F9292720A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77136-A44D-40C3-9426-329C2DC5D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6D6F-FFBF-45EA-9475-A9A61EE46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30DA6-E40E-4CB1-8D6A-113C916F4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A6933-C05B-4FAF-91E4-13F7306B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5A3E1-5C34-405A-A3DA-0A26DB2C3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40D88-F3ED-4B22-99C1-967D042C4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EC570-48E0-42DF-ACB6-39FEF2DDF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8CBB-15F7-4B3F-9601-009C26DC4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320B-D371-48DB-8BB0-F5A8C623C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C10E-A2F9-4941-AF27-BB792781C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6548-B6F5-4796-ACD2-D31723F5E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76CA-7027-4BDC-8628-DC2838E8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A13B-B342-46F7-94EC-A8A1DB7DE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3F97-6DE2-4958-ACAD-141F4113E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00007e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0000ac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56F59-72DD-4171-9AAD-CCD86115E25B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000072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0000ac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4EF98-305D-4DB0-98F2-C2E7768645DD}" type="slidenum">
              <a:rPr b="0" lang="es-E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2000160" y="1428840"/>
            <a:ext cx="5143680" cy="2836080"/>
          </a:xfrm>
          <a:prstGeom prst="rect">
            <a:avLst/>
          </a:prstGeom>
          <a:gradFill rotWithShape="0">
            <a:gsLst>
              <a:gs pos="0">
                <a:srgbClr val="000086"/>
              </a:gs>
              <a:gs pos="100000">
                <a:srgbClr val="0000ac"/>
              </a:gs>
            </a:gsLst>
            <a:lin ang="2700000"/>
          </a:gradFill>
          <a:ln w="9360">
            <a:solidFill>
              <a:srgbClr val="cc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ccffff"/>
                </a:solidFill>
                <a:latin typeface="Arial"/>
              </a:rPr>
              <a:t>ADMINISTRACIÓN DE CONSORCIOS DE P.H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898560" y="5429160"/>
            <a:ext cx="734544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 algn="ctr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Lic. Santiago A. Pontorier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3"/>
          <p:cNvSpPr/>
          <p:nvPr/>
        </p:nvSpPr>
        <p:spPr>
          <a:xfrm>
            <a:off x="539640" y="1582560"/>
            <a:ext cx="8064720" cy="36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99"/>
                </a:solidFill>
                <a:latin typeface="Arial"/>
              </a:rPr>
              <a:t>5. De la Conservación de Ascenso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¿Posee Libro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echa última inspección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mpresa interviniente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UI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Nombre y Apellido del Responsable Técnico de la Empres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Nº de Matrícul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bservacione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3"/>
          <p:cNvSpPr/>
          <p:nvPr/>
        </p:nvSpPr>
        <p:spPr>
          <a:xfrm>
            <a:off x="539640" y="1312920"/>
            <a:ext cx="8064720" cy="41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99"/>
                </a:solidFill>
                <a:latin typeface="Arial"/>
              </a:rPr>
              <a:t>6. De la Conservación de la Facha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ntigüedad del inmueble: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¿Corresponde?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¿Presenta Certificado de Conservación Ley 257/99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¿Presenta Informe Técnico vigente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echa de vencimiento del Informe Técnic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echa de vencimiento del Certificado de Conservación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bservacione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3"/>
          <p:cNvSpPr/>
          <p:nvPr/>
        </p:nvSpPr>
        <p:spPr>
          <a:xfrm>
            <a:off x="571680" y="1697040"/>
            <a:ext cx="7999200" cy="34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99"/>
                </a:solidFill>
                <a:latin typeface="Arial"/>
              </a:rPr>
              <a:t>Certificado de Edificio Segur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¿Se otorga Certificado de Edificio Seguro?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echa de emisión del Certificad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echa de vencimiento del Certificad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lazo en días otorgado por el profesional para efectuar las mejoras observada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bservacione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2286000" y="3096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ffff"/>
                </a:solidFill>
                <a:latin typeface="Arial"/>
              </a:rPr>
              <a:t>LIBROS OBLIGATOR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900000" y="1484280"/>
            <a:ext cx="3384720" cy="47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99"/>
                </a:solidFill>
                <a:latin typeface="Arial"/>
              </a:rPr>
              <a:t>Libr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ct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dministr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Remunera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Órde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scenso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Firm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4 Conector recto"/>
          <p:cNvSpPr/>
          <p:nvPr/>
        </p:nvSpPr>
        <p:spPr>
          <a:xfrm>
            <a:off x="250920" y="981000"/>
            <a:ext cx="8642160" cy="0"/>
          </a:xfrm>
          <a:prstGeom prst="line">
            <a:avLst/>
          </a:prstGeom>
          <a:ln w="9360">
            <a:solidFill>
              <a:srgbClr val="cce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5146560" y="1484280"/>
            <a:ext cx="3818160" cy="47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99"/>
                </a:solidFill>
                <a:latin typeface="Arial"/>
              </a:rPr>
              <a:t>Rúbr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Reg. Prop. Inmue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Minist. de Trabaj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Gob. CAB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Reg. Público. Ad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6 Cerrar llave"/>
          <p:cNvSpPr/>
          <p:nvPr/>
        </p:nvSpPr>
        <p:spPr>
          <a:xfrm>
            <a:off x="4427640" y="2133720"/>
            <a:ext cx="360360" cy="1150920"/>
          </a:xfrm>
          <a:custGeom>
            <a:avLst/>
            <a:gdLst>
              <a:gd name="textAreaLeft" fmla="*/ 0 w 360360"/>
              <a:gd name="textAreaRight" fmla="*/ 129960 w 360360"/>
              <a:gd name="textAreaTop" fmla="*/ 50040 h 1150920"/>
              <a:gd name="textAreaBottom" fmla="*/ 110088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09"/>
                  <a:pt x="10800" y="3017"/>
                </a:cubicBezTo>
                <a:lnTo>
                  <a:pt x="10800" y="3089"/>
                </a:lnTo>
                <a:cubicBezTo>
                  <a:pt x="10800" y="4598"/>
                  <a:pt x="16200" y="6106"/>
                  <a:pt x="21600" y="6106"/>
                </a:cubicBezTo>
                <a:cubicBezTo>
                  <a:pt x="16200" y="6106"/>
                  <a:pt x="10800" y="7615"/>
                  <a:pt x="10800" y="9123"/>
                </a:cubicBezTo>
                <a:lnTo>
                  <a:pt x="10800" y="18583"/>
                </a:lnTo>
                <a:cubicBezTo>
                  <a:pt x="10800" y="20092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9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7 Cerrar llave"/>
          <p:cNvSpPr/>
          <p:nvPr/>
        </p:nvSpPr>
        <p:spPr>
          <a:xfrm>
            <a:off x="4427640" y="3533760"/>
            <a:ext cx="360360" cy="1152720"/>
          </a:xfrm>
          <a:custGeom>
            <a:avLst/>
            <a:gdLst>
              <a:gd name="textAreaLeft" fmla="*/ 0 w 360360"/>
              <a:gd name="textAreaRight" fmla="*/ 129960 w 360360"/>
              <a:gd name="textAreaTop" fmla="*/ 50040 h 1152720"/>
              <a:gd name="textAreaBottom" fmla="*/ 110268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07"/>
                  <a:pt x="10800" y="3013"/>
                </a:cubicBezTo>
                <a:lnTo>
                  <a:pt x="10800" y="3093"/>
                </a:lnTo>
                <a:cubicBezTo>
                  <a:pt x="10800" y="4600"/>
                  <a:pt x="16200" y="6106"/>
                  <a:pt x="21600" y="6106"/>
                </a:cubicBezTo>
                <a:cubicBezTo>
                  <a:pt x="16200" y="6106"/>
                  <a:pt x="10800" y="7613"/>
                  <a:pt x="10800" y="9119"/>
                </a:cubicBezTo>
                <a:lnTo>
                  <a:pt x="10800" y="18587"/>
                </a:lnTo>
                <a:cubicBezTo>
                  <a:pt x="10800" y="20094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9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96" name="9 Conector recto de flecha"/>
          <p:cNvCxnSpPr/>
          <p:nvPr/>
        </p:nvCxnSpPr>
        <p:spPr>
          <a:xfrm>
            <a:off x="4233960" y="5195880"/>
            <a:ext cx="721440" cy="2160"/>
          </a:xfrm>
          <a:prstGeom prst="straightConnector1">
            <a:avLst/>
          </a:prstGeom>
          <a:ln w="28440">
            <a:solidFill>
              <a:srgbClr val="ffff99"/>
            </a:solidFill>
            <a:miter/>
            <a:tailEnd len="med" type="arrow" w="med"/>
          </a:ln>
        </p:spPr>
      </p:cxnSp>
      <p:cxnSp>
        <p:nvCxnSpPr>
          <p:cNvPr id="97" name="10 Conector recto de flecha"/>
          <p:cNvCxnSpPr/>
          <p:nvPr/>
        </p:nvCxnSpPr>
        <p:spPr>
          <a:xfrm>
            <a:off x="4233960" y="5865840"/>
            <a:ext cx="721440" cy="2160"/>
          </a:xfrm>
          <a:prstGeom prst="straightConnector1">
            <a:avLst/>
          </a:prstGeom>
          <a:ln w="28440">
            <a:solidFill>
              <a:srgbClr val="ffff99"/>
            </a:solidFill>
            <a:miter/>
            <a:tailEnd len="med" type="arrow" w="med"/>
          </a:ln>
        </p:spPr>
      </p:cxn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1332000" y="309600"/>
            <a:ext cx="64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ffff"/>
                </a:solidFill>
                <a:latin typeface="Arial"/>
              </a:rPr>
              <a:t>LIBRO DE REGISTRO DE FIRM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719280" y="1247760"/>
            <a:ext cx="77054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nidad: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iso: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to: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orc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ech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ombre y Apellid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oc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eléfon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irm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orcentual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omicilio constituido: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d. Postal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ertificado po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irm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rácte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4 Conector recto"/>
          <p:cNvSpPr/>
          <p:nvPr/>
        </p:nvSpPr>
        <p:spPr>
          <a:xfrm>
            <a:off x="250920" y="981000"/>
            <a:ext cx="8642160" cy="0"/>
          </a:xfrm>
          <a:prstGeom prst="line">
            <a:avLst/>
          </a:prstGeom>
          <a:ln w="9360">
            <a:solidFill>
              <a:srgbClr val="cce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11 Conector recto"/>
          <p:cNvSpPr/>
          <p:nvPr/>
        </p:nvSpPr>
        <p:spPr>
          <a:xfrm>
            <a:off x="250920" y="5013360"/>
            <a:ext cx="8642160" cy="0"/>
          </a:xfrm>
          <a:prstGeom prst="line">
            <a:avLst/>
          </a:prstGeom>
          <a:ln w="9360">
            <a:solidFill>
              <a:srgbClr val="cce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136440" y="309600"/>
            <a:ext cx="88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ffff"/>
                </a:solidFill>
                <a:latin typeface="Arial"/>
              </a:rPr>
              <a:t>LIBRO CONTROL SANITARIO Y AGUA POT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441360" y="1197000"/>
            <a:ext cx="826128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ombre de la Empres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úmero de Registr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echa de limpieza de tanqu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sultado del análisis del agua potable:    Apto / No ap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servacion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irma del Administrador: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laració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irma del Director Técnico: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laració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4 Conector recto"/>
          <p:cNvSpPr/>
          <p:nvPr/>
        </p:nvSpPr>
        <p:spPr>
          <a:xfrm>
            <a:off x="250920" y="981000"/>
            <a:ext cx="8642160" cy="0"/>
          </a:xfrm>
          <a:prstGeom prst="line">
            <a:avLst/>
          </a:prstGeom>
          <a:ln w="9360">
            <a:solidFill>
              <a:srgbClr val="cce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11 Conector recto"/>
          <p:cNvSpPr/>
          <p:nvPr/>
        </p:nvSpPr>
        <p:spPr>
          <a:xfrm>
            <a:off x="250920" y="5013360"/>
            <a:ext cx="8642160" cy="0"/>
          </a:xfrm>
          <a:prstGeom prst="line">
            <a:avLst/>
          </a:prstGeom>
          <a:ln w="9360">
            <a:solidFill>
              <a:srgbClr val="cce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5 Conector recto"/>
          <p:cNvSpPr/>
          <p:nvPr/>
        </p:nvSpPr>
        <p:spPr>
          <a:xfrm>
            <a:off x="250920" y="3224160"/>
            <a:ext cx="8642160" cy="0"/>
          </a:xfrm>
          <a:prstGeom prst="line">
            <a:avLst/>
          </a:prstGeom>
          <a:ln w="9360">
            <a:solidFill>
              <a:srgbClr val="cce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136440" y="309600"/>
            <a:ext cx="88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ffff"/>
                </a:solidFill>
                <a:latin typeface="Arial"/>
              </a:rPr>
              <a:t>LIBRO CONTROL DE SEGURIDAD EDILIC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250920" y="1197000"/>
            <a:ext cx="8642160" cy="56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99"/>
                </a:solidFill>
                <a:latin typeface="Arial"/>
              </a:rPr>
              <a:t>Datos del Administrad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0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Nombre y Apellido o Razón Social: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Nº RP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0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¿Se exhibe certificado en sector visible del edificio segú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isp. Nº 3205/DGDYPC/10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0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99"/>
                </a:solidFill>
                <a:latin typeface="Arial"/>
              </a:rPr>
              <a:t>Datos del Profesi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0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Nombre y Apellido: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NI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0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UIL/CUI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0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atrícula Nº: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Registro Nº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0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Nº Encomienda Profesional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0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nsejo Profesional al que pertenece: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Título habilitant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0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mpañía ART y/o Seguro de Accidentes Personales: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Nº Póliz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4 Conector recto"/>
          <p:cNvSpPr/>
          <p:nvPr/>
        </p:nvSpPr>
        <p:spPr>
          <a:xfrm>
            <a:off x="250920" y="981000"/>
            <a:ext cx="8642160" cy="0"/>
          </a:xfrm>
          <a:prstGeom prst="line">
            <a:avLst/>
          </a:prstGeom>
          <a:ln w="9360">
            <a:solidFill>
              <a:srgbClr val="cce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5 Conector recto"/>
          <p:cNvSpPr/>
          <p:nvPr/>
        </p:nvSpPr>
        <p:spPr>
          <a:xfrm>
            <a:off x="250920" y="3213000"/>
            <a:ext cx="8642160" cy="0"/>
          </a:xfrm>
          <a:prstGeom prst="line">
            <a:avLst/>
          </a:prstGeom>
          <a:ln w="9360">
            <a:solidFill>
              <a:srgbClr val="cce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3"/>
          <p:cNvSpPr/>
          <p:nvPr/>
        </p:nvSpPr>
        <p:spPr>
          <a:xfrm>
            <a:off x="539640" y="274680"/>
            <a:ext cx="8064720" cy="65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99"/>
                </a:solidFill>
                <a:latin typeface="Arial"/>
              </a:rPr>
              <a:t>1. De los Matafuegos y Protección Contra Incend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antidad de Matafueg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¿Cumple con la dotación mínima según normativa vigente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¿Cumple con el control periódico trimestral según norma vigente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mpresa proveedora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UI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Nº de Registr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¿Cumple con Disposición 2614-DGDyPC/2008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¿Cumple con la Recarga Anual obligatoria según normas vigentes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¿Se encuentran los extintores ubicados en espacios comunes, accesibles y visibles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¿Se verifica que la chapa baliza se adecúa al extintor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¿Posee nicho de incendio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¿El nicho está completo según normativa vigente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bservacione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3"/>
          <p:cNvSpPr/>
          <p:nvPr/>
        </p:nvSpPr>
        <p:spPr>
          <a:xfrm>
            <a:off x="539640" y="428760"/>
            <a:ext cx="8064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99"/>
                </a:solidFill>
                <a:latin typeface="Arial"/>
              </a:rPr>
              <a:t>2. De las Calder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¿Posee caldera/s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¿Se encuentran habilitadas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¿Posee Seguro de R.C. para las mismas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mpañía Asegurador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óliza Nº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Vencimient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echa del último Certificado de Verificación Periódic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Vencimiento del Certificad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Nombre y Apellido del Profesional Certificant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ítulo habilitante del Profesional Certificant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nsejo o Colegio Profesional habilitante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atrícula Nº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¿Existe Planilla de Verificación de mantenimiento Periódico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bservacione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3"/>
          <p:cNvSpPr/>
          <p:nvPr/>
        </p:nvSpPr>
        <p:spPr>
          <a:xfrm>
            <a:off x="539640" y="504720"/>
            <a:ext cx="8064720" cy="57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99"/>
                </a:solidFill>
                <a:latin typeface="Arial"/>
              </a:rPr>
              <a:t>3. De la Limpieza de los Tanqu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¿Posee Libro de Control Sanitario y Agua Potable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¿Se encuentra en el edificio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¿Está firmado por el Director Técnico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echa de Apertura ante Escribano Públic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Nombre y Apellido del Director Técnic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echa de vencimiento de la última limpieza realizad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mpresa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UI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Nº de Registro de la Empres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¿Exhibe el Certificado según Resolución Nº 6/APRA/11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bservacione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3"/>
          <p:cNvSpPr/>
          <p:nvPr/>
        </p:nvSpPr>
        <p:spPr>
          <a:xfrm>
            <a:off x="539640" y="774720"/>
            <a:ext cx="8064720" cy="52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99"/>
                </a:solidFill>
                <a:latin typeface="Arial"/>
              </a:rPr>
              <a:t>4. De la Desinsect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¿Realiza Servicio de Desinsectación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n caso afirmativ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¿Exhibe Certificado de Desinsectación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echa del Servici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Razón Social de la Empresa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UI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Nº de Registro de la Empres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Nombre y Apellido del Director Técnic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Nº de Registro del Director Técnic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bservacione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5T18:58:38Z</dcterms:created>
  <dc:creator>Daniel Cirigliano</dc:creator>
  <dc:description/>
  <dc:language>en-US</dc:language>
  <cp:lastModifiedBy>Daniel Cirigliano</cp:lastModifiedBy>
  <dcterms:modified xsi:type="dcterms:W3CDTF">2011-07-21T20:49:12Z</dcterms:modified>
  <cp:revision>55</cp:revision>
  <dc:subject/>
  <dc:title>Diapositiva 1</dc:title>
</cp:coreProperties>
</file>